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076-DA79-40EF-AC72-BA86F690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E80-AB9F-4054-9C7E-10364DD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460-C7C5-451C-B027-414F550D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DA1-19D3-4C27-89D4-22EB5433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042-B39A-4F23-9A06-F2338FD6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657-FD65-4F3C-B2BC-783393F7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BFE-7B9B-44B1-B9FB-3BBBB79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2C9-08A4-4E73-9FC7-159B4A5F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C98-7DA4-444D-8D52-2470ABC2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B9A-3675-402D-B4FD-A90404B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C61-E7DF-4495-B14E-3272C96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CEB-B8AB-4060-82D7-95570C9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C4C-9612-47FD-8453-917CCC3C3B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8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0686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use a timetabl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5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43080" y="88920"/>
            <a:ext cx="8286480" cy="3465360"/>
            <a:chOff x="343080" y="88920"/>
            <a:chExt cx="8286480" cy="346536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04920"/>
              <a:ext cx="8229600" cy="3249360"/>
              <a:chOff x="380880" y="304920"/>
              <a:chExt cx="8229600" cy="3249360"/>
            </a:xfrm>
          </p:grpSpPr>
          <p:sp>
            <p:nvSpPr>
              <p:cNvPr id="74" name=""/>
              <p:cNvSpPr/>
              <p:nvPr/>
            </p:nvSpPr>
            <p:spPr>
              <a:xfrm>
                <a:off x="1905120" y="304920"/>
                <a:ext cx="4952880" cy="520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Using Timetabl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240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7240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240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7240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7240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77240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9343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343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43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343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43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343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722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722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1722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722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1722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22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722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341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341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341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U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341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H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E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41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720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720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20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20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339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339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339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339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339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339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95480" y="318924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82420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95480" y="2457360"/>
                <a:ext cx="83844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95480" y="2089080"/>
                <a:ext cx="83844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172260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95480" y="1357200"/>
                <a:ext cx="83844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95480" y="99072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880" y="318924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Scawby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0880" y="282420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Milf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0880" y="2457360"/>
                <a:ext cx="2514600" cy="3668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Atclif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2089080"/>
                <a:ext cx="2514600" cy="3682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Worsl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0880" y="172260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Cat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880" y="1357200"/>
                <a:ext cx="2514600" cy="36540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Big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880" y="99072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Alton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99072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0880" y="1357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880" y="17226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80" y="208908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0880" y="245736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80" y="2824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318924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355428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104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9548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39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41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22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343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24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194600" y="101520"/>
              <a:ext cx="143496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43080" y="88920"/>
              <a:ext cx="143496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04920" y="3733920"/>
            <a:ext cx="739116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time does the 0825 bus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lton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191120"/>
            <a:ext cx="739116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hat time does the 0943 bus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Cat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64832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What time does the 2048 bus from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Worsley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10552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ow long does it take to get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tcliffe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562720"/>
            <a:ext cx="73342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ow long does it take to get from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Alton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Scawby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7467480" cy="368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What time does the last bus from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Bigby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 arrive at </a:t>
            </a:r>
            <a:r>
              <a:rPr b="1" lang="en-GB" sz="1700" spc="-1" strike="noStrike">
                <a:solidFill>
                  <a:srgbClr val="333399"/>
                </a:solidFill>
                <a:latin typeface="Comic Sans MS"/>
              </a:rPr>
              <a:t>Milfield</a:t>
            </a: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37339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0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1911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1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2400" y="46483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2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10552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8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9480" y="5562720"/>
            <a:ext cx="115272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49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6095880"/>
            <a:ext cx="914400" cy="3682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2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14600" y="876240"/>
            <a:ext cx="1181160" cy="2865240"/>
            <a:chOff x="2514600" y="876240"/>
            <a:chExt cx="1181160" cy="2865240"/>
          </a:xfrm>
        </p:grpSpPr>
        <p:sp>
          <p:nvSpPr>
            <p:cNvPr id="163" name=""/>
            <p:cNvSpPr/>
            <p:nvPr/>
          </p:nvSpPr>
          <p:spPr>
            <a:xfrm>
              <a:off x="2984400" y="985680"/>
              <a:ext cx="711360" cy="3477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8762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30988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63840" y="1676520"/>
            <a:ext cx="2057400" cy="2031840"/>
            <a:chOff x="2463840" y="1676520"/>
            <a:chExt cx="2057400" cy="2031840"/>
          </a:xfrm>
        </p:grpSpPr>
        <p:grpSp>
          <p:nvGrpSpPr>
            <p:cNvPr id="167" name=""/>
            <p:cNvGrpSpPr/>
            <p:nvPr/>
          </p:nvGrpSpPr>
          <p:grpSpPr>
            <a:xfrm>
              <a:off x="2463840" y="1701720"/>
              <a:ext cx="495360" cy="2006640"/>
              <a:chOff x="2463840" y="1701720"/>
              <a:chExt cx="495360" cy="2006640"/>
            </a:xfrm>
          </p:grpSpPr>
          <p:sp>
            <p:nvSpPr>
              <p:cNvPr id="168" name=""/>
              <p:cNvSpPr/>
              <p:nvPr/>
            </p:nvSpPr>
            <p:spPr>
              <a:xfrm>
                <a:off x="2463840" y="170172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66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65360" y="318780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66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59120" y="1676520"/>
              <a:ext cx="762120" cy="3934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463840" y="2044800"/>
            <a:ext cx="4444920" cy="1282320"/>
            <a:chOff x="2463840" y="2044800"/>
            <a:chExt cx="4444920" cy="1282320"/>
          </a:xfrm>
        </p:grpSpPr>
        <p:sp>
          <p:nvSpPr>
            <p:cNvPr id="172" name=""/>
            <p:cNvSpPr/>
            <p:nvPr/>
          </p:nvSpPr>
          <p:spPr>
            <a:xfrm>
              <a:off x="2502000" y="20829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3840" y="2806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2044800"/>
              <a:ext cx="749160" cy="4316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38280" y="2438280"/>
            <a:ext cx="1346400" cy="876240"/>
            <a:chOff x="2438280" y="2438280"/>
            <a:chExt cx="1346400" cy="876240"/>
          </a:xfrm>
        </p:grpSpPr>
        <p:sp>
          <p:nvSpPr>
            <p:cNvPr id="176" name=""/>
            <p:cNvSpPr/>
            <p:nvPr/>
          </p:nvSpPr>
          <p:spPr>
            <a:xfrm>
              <a:off x="2451240" y="24764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38280" y="27939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4720" y="2438280"/>
              <a:ext cx="939960" cy="3938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27200" y="939960"/>
            <a:ext cx="1143000" cy="2781000"/>
            <a:chOff x="2527200" y="939960"/>
            <a:chExt cx="1143000" cy="2781000"/>
          </a:xfrm>
        </p:grpSpPr>
        <p:sp>
          <p:nvSpPr>
            <p:cNvPr id="180" name=""/>
            <p:cNvSpPr/>
            <p:nvPr/>
          </p:nvSpPr>
          <p:spPr>
            <a:xfrm>
              <a:off x="2527200" y="9777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2760" y="32004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33640" y="939960"/>
              <a:ext cx="736560" cy="4060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413080" y="1320840"/>
            <a:ext cx="6197400" cy="2006280"/>
            <a:chOff x="2413080" y="1320840"/>
            <a:chExt cx="6197400" cy="2006280"/>
          </a:xfrm>
        </p:grpSpPr>
        <p:sp>
          <p:nvSpPr>
            <p:cNvPr id="184" name=""/>
            <p:cNvSpPr/>
            <p:nvPr/>
          </p:nvSpPr>
          <p:spPr>
            <a:xfrm>
              <a:off x="2451240" y="13334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13080" y="2806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4240" y="1320840"/>
              <a:ext cx="876240" cy="39384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00" y="3743280"/>
            <a:ext cx="8921880" cy="67284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Mary lives at Bigby. She has a dentist appointment at Scawby at 1110. What is the latest bus she can catch to ensure that she is on tim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210280"/>
            <a:ext cx="8686800" cy="962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omic Sans MS"/>
              </a:rPr>
              <a:t>Robert lives at Alton. He catches the first bus of the day to visit a friend in Atcliffe.  He then travels on to Scawby, arriving there at 1414. What time did he leave Atcliff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3080" y="88920"/>
            <a:ext cx="8286480" cy="3465360"/>
            <a:chOff x="343080" y="88920"/>
            <a:chExt cx="8286480" cy="3465360"/>
          </a:xfrm>
        </p:grpSpPr>
        <p:grpSp>
          <p:nvGrpSpPr>
            <p:cNvPr id="190" name=""/>
            <p:cNvGrpSpPr/>
            <p:nvPr/>
          </p:nvGrpSpPr>
          <p:grpSpPr>
            <a:xfrm>
              <a:off x="380880" y="304920"/>
              <a:ext cx="8229600" cy="3249360"/>
              <a:chOff x="380880" y="304920"/>
              <a:chExt cx="8229600" cy="3249360"/>
            </a:xfrm>
          </p:grpSpPr>
          <p:sp>
            <p:nvSpPr>
              <p:cNvPr id="191" name=""/>
              <p:cNvSpPr/>
              <p:nvPr/>
            </p:nvSpPr>
            <p:spPr>
              <a:xfrm>
                <a:off x="1905120" y="304920"/>
                <a:ext cx="4952880" cy="520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Using Timetabl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7240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7240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7240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240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7240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7240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7240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343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343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43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43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343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43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722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722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722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722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722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22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341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341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Unt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41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H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341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Ev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41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Comic Sans MS"/>
                  </a:rPr>
                  <a:t>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41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008383"/>
                  </a:gs>
                  <a:gs pos="50000">
                    <a:srgbClr val="009999"/>
                  </a:gs>
                  <a:gs pos="100000">
                    <a:srgbClr val="0083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72000" y="318924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72000" y="2824200"/>
                <a:ext cx="76212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72000" y="2457360"/>
                <a:ext cx="76212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0" y="2089080"/>
                <a:ext cx="76212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0" y="172260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2000" y="1357200"/>
                <a:ext cx="76212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72000" y="990720"/>
                <a:ext cx="76212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33920" y="318924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33920" y="2824200"/>
                <a:ext cx="83808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2457360"/>
                <a:ext cx="83808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33920" y="2089080"/>
                <a:ext cx="83808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33920" y="172260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33920" y="1357200"/>
                <a:ext cx="83808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3920" y="990720"/>
                <a:ext cx="83808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95480" y="318924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95480" y="2824200"/>
                <a:ext cx="838440" cy="3650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95480" y="2457360"/>
                <a:ext cx="838440" cy="36684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95480" y="2089080"/>
                <a:ext cx="838440" cy="3682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95480" y="172260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95480" y="1357200"/>
                <a:ext cx="838440" cy="36540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95480" y="990720"/>
                <a:ext cx="838440" cy="36648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8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0880" y="318924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Scawby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880" y="2824200"/>
                <a:ext cx="2514600" cy="3650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Milf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880" y="2457360"/>
                <a:ext cx="2514600" cy="36684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Atclif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0880" y="2089080"/>
                <a:ext cx="2514600" cy="3682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Worsl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0880" y="172260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Cat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0880" y="1357200"/>
                <a:ext cx="2514600" cy="36540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99"/>
                    </a:solidFill>
                    <a:latin typeface="Comic Sans MS"/>
                  </a:rPr>
                  <a:t>Bigb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80" y="990720"/>
                <a:ext cx="2514600" cy="366480"/>
              </a:xfrm>
              <a:prstGeom prst="rect">
                <a:avLst/>
              </a:prstGeom>
              <a:gradFill rotWithShape="0">
                <a:gsLst>
                  <a:gs pos="0">
                    <a:srgbClr val="a8a86f"/>
                  </a:gs>
                  <a:gs pos="50000">
                    <a:srgbClr val="ffffa9"/>
                  </a:gs>
                  <a:gs pos="100000">
                    <a:srgbClr val="a8a8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Comic Sans MS"/>
                  </a:rPr>
                  <a:t>Alton Bus 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0880" y="99072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880" y="1357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880" y="17226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880" y="208908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0880" y="245736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880" y="282420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0880" y="3189240"/>
                <a:ext cx="822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880" y="3554280"/>
                <a:ext cx="82296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08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610480" y="990720"/>
                <a:ext cx="0" cy="25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9548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7339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341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722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3432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72400" y="990720"/>
                <a:ext cx="0" cy="256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7194600" y="101520"/>
              <a:ext cx="143496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343080" y="88920"/>
              <a:ext cx="143496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/>
          <p:cNvSpPr/>
          <p:nvPr/>
        </p:nvSpPr>
        <p:spPr>
          <a:xfrm>
            <a:off x="3733920" y="4591080"/>
            <a:ext cx="1181160" cy="398880"/>
          </a:xfrm>
          <a:prstGeom prst="rect">
            <a:avLst/>
          </a:prstGeom>
          <a:gradFill rotWithShape="0">
            <a:gsLst>
              <a:gs pos="0">
                <a:srgbClr val="8e8e71"/>
              </a:gs>
              <a:gs pos="50000">
                <a:srgbClr val="ffffcc"/>
              </a:gs>
              <a:gs pos="100000">
                <a:srgbClr val="8e8e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0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6257880"/>
            <a:ext cx="1181160" cy="398880"/>
          </a:xfrm>
          <a:prstGeom prst="rect">
            <a:avLst/>
          </a:prstGeom>
          <a:gradFill rotWithShape="0">
            <a:gsLst>
              <a:gs pos="0">
                <a:srgbClr val="8e8e71"/>
              </a:gs>
              <a:gs pos="50000">
                <a:srgbClr val="ffffcc"/>
              </a:gs>
              <a:gs pos="100000">
                <a:srgbClr val="8e8e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1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504720" y="109440"/>
            <a:ext cx="8229600" cy="5078520"/>
            <a:chOff x="504720" y="109440"/>
            <a:chExt cx="8229600" cy="5078520"/>
          </a:xfrm>
        </p:grpSpPr>
        <p:sp>
          <p:nvSpPr>
            <p:cNvPr id="270" name=""/>
            <p:cNvSpPr/>
            <p:nvPr/>
          </p:nvSpPr>
          <p:spPr>
            <a:xfrm>
              <a:off x="504720" y="10573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Se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4720" y="14335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or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4720" y="180972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Ribbleh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720" y="21859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720" y="2562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Garsd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4720" y="29383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Kirkby.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720" y="3314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pple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720" y="3691080"/>
              <a:ext cx="1447920" cy="642600"/>
            </a:xfrm>
            <a:prstGeom prst="rect">
              <a:avLst/>
            </a:prstGeom>
            <a:gradFill rotWithShape="0">
              <a:gsLst>
                <a:gs pos="0">
                  <a:srgbClr val="be91bb"/>
                </a:gs>
                <a:gs pos="50000">
                  <a:srgbClr val="fcc0f8"/>
                </a:gs>
                <a:gs pos="100000">
                  <a:srgbClr val="be91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a</a:t>
              </a: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gwath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720" y="40672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Lazonby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&amp; 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720" y="44434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Armthw’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4720" y="4819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67ea3"/>
                </a:gs>
                <a:gs pos="50000">
                  <a:srgbClr val="fcc0f8"/>
                </a:gs>
                <a:gs pos="100000">
                  <a:srgbClr val="a67e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omic Sans MS"/>
                </a:rPr>
                <a:t>Carlis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52640" y="1057320"/>
              <a:ext cx="847440" cy="4130640"/>
              <a:chOff x="1952640" y="1057320"/>
              <a:chExt cx="847440" cy="4130640"/>
            </a:xfrm>
          </p:grpSpPr>
          <p:sp>
            <p:nvSpPr>
              <p:cNvPr id="282" name=""/>
              <p:cNvSpPr/>
              <p:nvPr/>
            </p:nvSpPr>
            <p:spPr>
              <a:xfrm>
                <a:off x="19526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526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9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526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26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26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26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26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526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26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526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800440" y="1057320"/>
              <a:ext cx="847440" cy="4130640"/>
              <a:chOff x="2800440" y="1057320"/>
              <a:chExt cx="847440" cy="4130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8004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0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004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004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004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004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004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004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3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004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004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004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004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48240" y="1057320"/>
              <a:ext cx="847440" cy="4130640"/>
              <a:chOff x="3648240" y="1057320"/>
              <a:chExt cx="847440" cy="4130640"/>
            </a:xfrm>
          </p:grpSpPr>
          <p:sp>
            <p:nvSpPr>
              <p:cNvPr id="306" name=""/>
              <p:cNvSpPr/>
              <p:nvPr/>
            </p:nvSpPr>
            <p:spPr>
              <a:xfrm>
                <a:off x="364824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4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4824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15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4824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4824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4824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4824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4824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4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4824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25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4824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4824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4824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495680" y="1057320"/>
              <a:ext cx="847440" cy="4130640"/>
              <a:chOff x="4495680" y="1057320"/>
              <a:chExt cx="847440" cy="4130640"/>
            </a:xfrm>
          </p:grpSpPr>
          <p:sp>
            <p:nvSpPr>
              <p:cNvPr id="318" name=""/>
              <p:cNvSpPr/>
              <p:nvPr/>
            </p:nvSpPr>
            <p:spPr>
              <a:xfrm>
                <a:off x="44956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35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956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956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956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956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956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4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956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956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343480" y="1057320"/>
              <a:ext cx="847440" cy="4130640"/>
              <a:chOff x="5343480" y="1057320"/>
              <a:chExt cx="847440" cy="4130640"/>
            </a:xfrm>
          </p:grpSpPr>
          <p:sp>
            <p:nvSpPr>
              <p:cNvPr id="330" name=""/>
              <p:cNvSpPr/>
              <p:nvPr/>
            </p:nvSpPr>
            <p:spPr>
              <a:xfrm>
                <a:off x="53434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434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5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434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434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434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34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34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34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65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34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434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34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191280" y="1057320"/>
              <a:ext cx="847440" cy="4130640"/>
              <a:chOff x="6191280" y="1057320"/>
              <a:chExt cx="847440" cy="4130640"/>
            </a:xfrm>
          </p:grpSpPr>
          <p:sp>
            <p:nvSpPr>
              <p:cNvPr id="342" name=""/>
              <p:cNvSpPr/>
              <p:nvPr/>
            </p:nvSpPr>
            <p:spPr>
              <a:xfrm>
                <a:off x="61912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912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912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912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4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912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4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912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75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912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912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912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1912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3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1912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5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039080" y="1057320"/>
              <a:ext cx="847440" cy="4130640"/>
              <a:chOff x="7039080" y="1057320"/>
              <a:chExt cx="847440" cy="4130640"/>
            </a:xfrm>
          </p:grpSpPr>
          <p:sp>
            <p:nvSpPr>
              <p:cNvPr id="354" name=""/>
              <p:cNvSpPr/>
              <p:nvPr/>
            </p:nvSpPr>
            <p:spPr>
              <a:xfrm>
                <a:off x="70390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85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0390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390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390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390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390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3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390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95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390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390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390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390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886880" y="1057320"/>
              <a:ext cx="847440" cy="4130640"/>
              <a:chOff x="7886880" y="1057320"/>
              <a:chExt cx="847440" cy="4130640"/>
            </a:xfrm>
          </p:grpSpPr>
          <p:sp>
            <p:nvSpPr>
              <p:cNvPr id="366" name=""/>
              <p:cNvSpPr/>
              <p:nvPr/>
            </p:nvSpPr>
            <p:spPr>
              <a:xfrm>
                <a:off x="7886880" y="1057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886880" y="14335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86880" y="18097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04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86880" y="21859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86880" y="25621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886880" y="293832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86880" y="33148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86880" y="36910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886880" y="40672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86880" y="44434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6880" y="4819680"/>
                <a:ext cx="847440" cy="368280"/>
              </a:xfrm>
              <a:prstGeom prst="rect">
                <a:avLst/>
              </a:prstGeom>
              <a:gradFill rotWithShape="0">
                <a:gsLst>
                  <a:gs pos="0">
                    <a:srgbClr val="8fbec0"/>
                  </a:gs>
                  <a:gs pos="50000">
                    <a:srgbClr val="befcfe"/>
                  </a:gs>
                  <a:gs pos="100000">
                    <a:srgbClr val="8fbe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6654960" y="109440"/>
              <a:ext cx="1822320" cy="7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041480" y="109440"/>
              <a:ext cx="1822320" cy="7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301920" y="304920"/>
              <a:ext cx="28893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ettle to Carlis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388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2421000"/>
            <a:ext cx="496764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84360" y="256536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2708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5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56000" y="4437000"/>
            <a:ext cx="453528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7640" y="4653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5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406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08000" y="2421000"/>
            <a:ext cx="5040360" cy="3600360"/>
          </a:xfrm>
          <a:prstGeom prst="rect">
            <a:avLst/>
          </a:prstGeom>
          <a:solidFill>
            <a:srgbClr val="fffff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124000" y="2637000"/>
          <a:ext cx="4619880" cy="3195360"/>
        </p:xfrm>
        <a:graphic>
          <a:graphicData uri="http://schemas.openxmlformats.org/drawingml/2006/table">
            <a:tbl>
              <a:tblPr/>
              <a:tblGrid>
                <a:gridCol w="1224000"/>
                <a:gridCol w="843120"/>
                <a:gridCol w="952560"/>
                <a:gridCol w="749160"/>
                <a:gridCol w="85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e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50920" y="1916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missing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12000" y="458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2000" y="5229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424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0920" y="2421000"/>
            <a:ext cx="7740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8360" y="2565360"/>
            <a:ext cx="72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 travels at a speed of 50 miles per hour for 3 hou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istance travelled by the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1916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B  Standar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" y="4365720"/>
            <a:ext cx="7740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4508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yclist travels 90 kilometres, travelling at 18 kilometres per h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the journey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836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0400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3789360"/>
            <a:ext cx="7632720" cy="43164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386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les in 1 hour  100 miles in 2 hours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50 miles in 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5661000"/>
            <a:ext cx="7632720" cy="43200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5734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x 5 =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08720" y="566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5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45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7T21:17:59Z</dcterms:modified>
  <cp:revision>15</cp:revision>
  <dc:subject/>
  <dc:title>Slide 1</dc:title>
</cp:coreProperties>
</file>